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5AED-E608-4BB7-BF14-5F1409A42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9DF8-6D01-40D4-9684-D14AC0D3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2BEC-DEB4-48A8-A547-A6ABC1A9E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FE21-889D-4BF2-BECA-A8255EF5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249F-5B1B-4637-98C9-2821DB5C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E8D3-662E-4466-8FA1-24D50BE7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D5ED-62F3-4010-A8B9-986D1FC1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BDA7-9248-4A81-8C69-810DBBFD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D787-AC3D-4D42-A958-D492937A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794B-FA67-4D82-BF40-67CBC3A2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078D-666F-49D8-9066-B7D51EC8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BE2F-566D-4293-A49F-1E23BB0B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EEF5-BA5B-4ADA-BB02-711FBF7115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556000" y="4797360"/>
            <a:ext cx="37432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Sesiunea iunie - iuli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5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2110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ent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comp_i"/>
          <p:cNvPicPr/>
          <p:nvPr/>
        </p:nvPicPr>
        <p:blipFill>
          <a:blip r:embed="rId1"/>
          <a:stretch/>
        </p:blipFill>
        <p:spPr>
          <a:xfrm>
            <a:off x="5508720" y="1557360"/>
            <a:ext cx="2676600" cy="267660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5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b3s5</cp:lastModifiedBy>
  <dcterms:modified xsi:type="dcterms:W3CDTF">2012-06-18T11:05:40Z</dcterms:modified>
  <cp:revision>30</cp:revision>
  <dc:subject/>
  <dc:title>SALARIUL</dc:title>
</cp:coreProperties>
</file>